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2C0-EA9F-40A1-9AFD-410A4400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459-581E-40F1-8A96-779F3F31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D6B-D5A0-4D57-ADDD-8080D294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18C-45D1-48AC-9C4A-0C4DA0CA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6FA0-5B56-46E7-84CC-225AA595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E215-D9F5-4B4E-9633-39FD91D0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2BFA-7234-4847-8999-35154BFE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546A-9D9D-4B39-8842-A5EF46C8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BADE-1C32-42E2-A5FC-3C6EC953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0062-5A38-43A0-8AC9-C163660D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A1AB-F29E-4912-9EE1-B9EABD84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4DE-ABE2-428D-8668-79ABD4BA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DEC7-E7C7-41F8-BF1C-3019F35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AB2E-C0CE-47C6-AEDC-2BEC3D4E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21BF-19C7-40E9-918D-C23A0E01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7C8B-8E59-410F-B4E3-BF118051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24EF-2D41-46F1-AA43-825B7BC2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5D9F3-5E6D-4435-A73A-C51A15EC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F9D2-7FC5-4204-B2B9-D497BAFF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4302-1BBA-45A2-987E-DC169F68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B01BF-8ABA-4B05-9223-1BF68D25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2D23-4A5F-410E-B1FC-AC0459A7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28C-660E-4015-A517-74FAE5CA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2AD1-1ADC-43EA-A293-7D0E2371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8920A-8AB5-46BA-A9DD-29B14041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5E46-A3D6-40CA-A094-397130B2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9AA8-AC23-4C65-8673-670075CA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6428-0A9E-4E29-A22F-6EF5DA91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FA86-6685-466F-A6FE-26BAE3C9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10F2-2F1F-4B6F-89E2-3183FB7E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3D99-1565-4CC5-A519-D885BE52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07BC-BD1F-4B6D-864A-DBBA90A3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2907C-F175-4F32-B5BC-BCCF247C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C8A-B3C5-4A90-84A2-2A8E56A6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5732-C882-4E84-8257-9EC457B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873D-0EDE-4EC2-83DF-29ED76F9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8518-5715-42AE-9A8B-03BC7292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43BB-EC48-472D-9742-61300A72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ADD8-A1F4-46A0-93F9-9F64E3C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8B9F-2781-4DFB-A45C-21C9AEE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2416-DE26-430B-9A79-FB6D0126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DC3B-3752-42DE-B747-BBD0B1B5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DE0C1-C68C-4CE4-B7A6-18AE00B1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047-CA38-4A6D-AA02-6C7320F8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C55-CB64-4BD8-9320-95EE81AE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D95-2FD3-404E-B68E-20037C55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C4A-73AA-4FCD-AC8A-8863C3A0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5E5-6AB9-4C4F-9E5A-515DC72B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E2E4-491B-4A79-BDCA-C1F43B76C0D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F686-DB7D-420C-8D06-DC9C3BE7240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4B2E-18F4-41E5-B7FB-BBB39DBD292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6666-6505-414E-9EE7-60E3DB9070E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240" y="4038480"/>
            <a:ext cx="56372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Trebuchet MS"/>
              </a:rPr>
              <a:t>Manufacturing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12760" y="1530360"/>
            <a:ext cx="765648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785960" y="3724200"/>
            <a:ext cx="7169040" cy="3724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457200" y="5335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Kareem is the only one who has an in depth understanding of the troubleshooting the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Accountability and Adaptability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Creativity and Intellectual Curiosity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Problem Identification, Formulation and Solution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33520" y="121896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Tw Cen MT"/>
              </a:rPr>
              <a:t>Self-Direction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33520" y="1143000"/>
            <a:ext cx="77724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8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Tw Cen MT"/>
              </a:rPr>
              <a:t>Social Responsibility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6:48:18Z</dcterms:created>
  <dc:creator>cay</dc:creator>
  <dc:description/>
  <dc:language>en-US</dc:language>
  <cp:lastModifiedBy>ella</cp:lastModifiedBy>
  <dcterms:modified xsi:type="dcterms:W3CDTF">2012-07-04T13:32:12Z</dcterms:modified>
  <cp:revision>10</cp:revision>
  <dc:subject/>
  <dc:title>Scenario - 2</dc:title>
</cp:coreProperties>
</file>